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6AE-FEA9-4707-9515-82876522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81A-F96B-4971-A62C-5E3B6382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2AD-3A31-4B5F-A71D-89C64817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D94-6DCB-4274-BA6C-73145B32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960-0B98-4137-851C-234113FE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8A9-16B6-418A-A69D-8A466A11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6F1-4FC0-46C3-91C1-518E47B8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84B-52F0-447D-ADD3-5B59FBF8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7B3-E460-4AA5-894E-82D457A1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CCA-D7AF-47A8-8943-AD7B6CD1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AA1-77A2-4683-836A-A10DD998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25E-C214-4C2E-BE82-BE022BAA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A7E7-ACC2-40F0-A306-10277883C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12.statcan.ca/english/profil01/CP01/Index.cfm?Lang=E" TargetMode="External"/><Relationship Id="rId2" Type="http://schemas.openxmlformats.org/officeDocument/2006/relationships/hyperlink" Target="http://www12.statcan.ca/english/profil01/CP01/Search/List/Page.cfm?Lang=E&amp;GeoCode=10" TargetMode="External"/><Relationship Id="rId3" Type="http://schemas.openxmlformats.org/officeDocument/2006/relationships/hyperlink" Target="http://www12.statcan.ca/english/profil01/CP01/Search/List/Page.cfm?Lang=E&amp;GeoCode=11" TargetMode="External"/><Relationship Id="rId4" Type="http://schemas.openxmlformats.org/officeDocument/2006/relationships/hyperlink" Target="http://www12.statcan.ca/english/profil01/CP01/Search/List/Page.cfm?Lang=E&amp;GeoCode=12" TargetMode="External"/><Relationship Id="rId5" Type="http://schemas.openxmlformats.org/officeDocument/2006/relationships/hyperlink" Target="http://www12.statcan.ca/english/profil01/CP01/Search/List/Page.cfm?Lang=E&amp;GeoCode=13" TargetMode="External"/><Relationship Id="rId6" Type="http://schemas.openxmlformats.org/officeDocument/2006/relationships/hyperlink" Target="http://www12.statcan.ca/english/profil01/CP01/Search/List/Page.cfm?Lang=E&amp;GeoCode=24" TargetMode="External"/><Relationship Id="rId7" Type="http://schemas.openxmlformats.org/officeDocument/2006/relationships/hyperlink" Target="http://www12.statcan.ca/english/profil01/CP01/Search/List/Page.cfm?Lang=E&amp;GeoCode=35" TargetMode="External"/><Relationship Id="rId8" Type="http://schemas.openxmlformats.org/officeDocument/2006/relationships/hyperlink" Target="http://www12.statcan.ca/english/profil01/CP01/Search/List/Page.cfm?Lang=E&amp;GeoCode=46" TargetMode="External"/><Relationship Id="rId9" Type="http://schemas.openxmlformats.org/officeDocument/2006/relationships/hyperlink" Target="http://www12.statcan.ca/english/profil01/CP01/Search/List/Page.cfm?Lang=E&amp;GeoCode=47" TargetMode="External"/><Relationship Id="rId10" Type="http://schemas.openxmlformats.org/officeDocument/2006/relationships/hyperlink" Target="http://www12.statcan.ca/english/profil01/CP01/Search/List/Page.cfm?Lang=E&amp;GeoCode=48" TargetMode="External"/><Relationship Id="rId11" Type="http://schemas.openxmlformats.org/officeDocument/2006/relationships/hyperlink" Target="http://www12.statcan.ca/english/profil01/CP01/Search/List/Page.cfm?Lang=E&amp;GeoCode=59" TargetMode="External"/><Relationship Id="rId12" Type="http://schemas.openxmlformats.org/officeDocument/2006/relationships/hyperlink" Target="http://www12.statcan.ca/english/profil01/CP01/Search/List/Page.cfm?Lang=E&amp;GeoCode=60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ovement of population away from their home region, either from one country to another (international migration) or from one part of a country to another (internal migratio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is a permanent (or long-term) movement, which involves the break-up of a person's residential and soci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leave areas due to push factors and are drawn to areas by pull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s such as cost, language, politics, and knowledge also influence 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ends to repel people from an area. Examples are crop failure, pollution, natural disasters, and poor living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ends to attract people to an area. Examples include higher wages, better housing, and better educational opportun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12.statcan.ca/english/profil01/CP01/Index.cfm?Lang=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from a list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ewfoundland and Labra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ince Edward Is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ova Scot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ew Brunswi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Québ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nt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anitob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askatchew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lber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British Columb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Yukon Terri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Northwest Territories | Nunav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066680" y="46483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province(s)  that make up most of your region. Divide the task between members of your group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ild Your 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: Immigration Characteristics - then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Foreign Born Population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immigrated before 199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most of the population born in Canada or foreign born for your prov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www40.statcan.gc.ca/l01/cst01/demo34b-eng.ht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rovinces that are represented in your geographic region (on left side of web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birth countries of the top four immigrant groups in the provi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“Europe” you should specify which part of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information from both websites in a Word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add the information to the M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for you to put on th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eign Born Population for each province represented in your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immigrants before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most of the population born in Canada or foreign born for your prov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rth countries of the top four immigrant groups in the provi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7:34Z</dcterms:created>
  <dc:creator>NBDOE</dc:creator>
  <dc:description/>
  <dc:language>en-US</dc:language>
  <cp:lastModifiedBy>DT06</cp:lastModifiedBy>
  <dcterms:modified xsi:type="dcterms:W3CDTF">2009-11-25T13:19:03Z</dcterms:modified>
  <cp:revision>9</cp:revision>
  <dc:subject/>
  <dc:title>Go to http://www12.statcan.ca/english/profil01/CP01/Index.cfm?Lang=E </dc:title>
</cp:coreProperties>
</file>